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39F-4F00-4654-AE72-C229E126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7AA-7973-4693-962E-BEF07850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2EB-EB6D-45D8-8425-5702E980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FDC-2A27-40E6-91B0-10AA15E5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FEEB-7B92-4907-A9A2-CE2E9DF4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B906-D2DC-4910-A1DD-4D18D0FD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E530-8935-4CE1-B3FB-06E441AE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2B52-9700-460C-A22F-D5D0EF39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53CB-83B3-45D6-AFE1-E433AD01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2172-3513-44BA-B837-D84F0BCE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9DE3-E7BF-47A2-881D-9EA95322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87E-67AD-4536-AF16-D7D27FF4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B8EE-066C-4141-86A8-71F9D1D1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18B8-28AD-4905-A367-B1C74797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3114-651F-464E-B26A-786E6E1E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22AD-DF71-403E-8CAF-BB254FE0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974F-AD01-4189-BF59-8AD9BA2B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B97-E7DE-41CF-95C2-D483A6C4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911-BF6F-4644-8C09-0FCFBBB1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665-0ED2-4955-BD31-064D235D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C0E-FE14-4100-8264-881DE8E7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F83-2247-43A9-B28F-BDB0B69F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A88-334E-41E4-B4B5-5A1DC0E3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F84-9F74-4B99-B86D-5F3CEE3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696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944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112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972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624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808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736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504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952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304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92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440"/>
              <a:ext cx="7985160" cy="265284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92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256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648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9012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904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96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336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336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768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832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960"/>
              <a:ext cx="9131400" cy="295956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303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760"/>
              <a:ext cx="9131400" cy="212292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432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432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5044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24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9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68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1280"/>
              <a:ext cx="9140760" cy="2949480"/>
              <a:chOff x="0" y="259128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128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36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38800"/>
            <a:ext cx="21351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38800"/>
            <a:ext cx="21351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BA31-77DF-4F23-9A79-BD43BE8E8E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696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944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112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972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624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808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736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504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952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304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92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440"/>
              <a:ext cx="7985160" cy="265284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92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256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648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9012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904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96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336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336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768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832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960"/>
              <a:ext cx="9131400" cy="295956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303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760"/>
              <a:ext cx="9131400" cy="212292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432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432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5044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24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9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68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1280"/>
              <a:ext cx="9140760" cy="2949480"/>
              <a:chOff x="0" y="259128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128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36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95160"/>
            <a:ext cx="823104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38800"/>
            <a:ext cx="21351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7280" cy="4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38800"/>
            <a:ext cx="21351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B4C8-6A6B-4B6D-8EC3-401B580BD9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2000" y="1268280"/>
            <a:ext cx="87138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УЛОГА РАЧУНОВОЂЕ И РАЧУНОВОДСТВЕНИХ ИНФИРМАЦИЈА У ПОСТУПКУ ПЛАНИРАЊА И ПРОВОЂЕЊА  ЈАВНИХ НАБАВ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Душко Даничић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2B9-F002-4E93-A868-B243262FE9D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2360" y="134100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15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(настава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5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Код дефинисања критеријума за додјелу уговора - да ли да се изабере опција  "економски најповољнија понуда" или "искључиво најнижа цијена";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5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Код дефинисања информација везаних за метод и начин калкулације цијене, тако да цијена укључује све припадајуће порез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5000"/>
              </a:lnSpc>
              <a:spcBef>
                <a:spcPts val="64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Дефинисање формата банковних гаранција или других одговарајућих средстава осигурања, с циљем пружања гаранције за понуду и извршење уговора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pl-PL" sz="3000" spc="-1" strike="noStrike">
                <a:solidFill>
                  <a:srgbClr val="ffff00"/>
                </a:solidFill>
                <a:latin typeface="Arial"/>
              </a:rPr>
              <a:t>ТЕНДЕРСКА ДОКУМЕНТАЦИЈА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CD8-D3B0-4FC6-9047-5867914BF6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2360" y="119700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исија за набавке је строчно тијело уговорног органа које обавља повјерене послове везано за провођење јавне набавке и оцјену формалних и суштионских ставки садржаних у понуди кандидата / понуђач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Искуство и стручност рачуновође може се искористити у </a:t>
            </a:r>
            <a:r>
              <a:rPr b="1" lang="sr-CS" sz="2600" spc="-1" strike="noStrike">
                <a:solidFill>
                  <a:srgbClr val="ffff00"/>
                </a:solidFill>
                <a:latin typeface="Arial"/>
              </a:rPr>
              <a:t>консултантске сврхе, неугрожавајући независност комидсије,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код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цјена економске и финансијске подобности кандидата или понуђач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Оцјене укупне понуђене цијене (да ли садржи све тражене елементе)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ТРУЧНА ПОМОЋ КОМИСИЈИ ЗА Ј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7FF-DF81-4719-97EC-4AA8184AC8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2360" y="119700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(НАСТАВАК) Искуство и стручност рачуновође може се искористити у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консултантске сврх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ко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цјене услова плаћања и понуђених гаранциј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авања инфомрација о евентуалним претходним искуствима са неким од понуђач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цјена достављене калкулације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ТРУЧНА ПОМОЋ КОМИСИЈИ ЗА Ј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3F9-C6A4-4672-A531-ADA8990BC5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2360" y="1916280"/>
            <a:ext cx="86407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Рачуновођа може као консултант и експерт помоћи код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ОЦЈЕНЕ ДА ЛИ ПОСТОЈЕ ЕЛЕМЕНТИ НЕПРИРОДНО НИСКЕ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ОЦЈЕНЕ ДОСТАВЉЕНИХ ОБРАЗЛОЖЕЊА ТАКВЕ ЦИЈЕНЕ ОД СТРАНЕ ПОНУЂАЧ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310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ТРУЧНА ПОМОЋ КОМИСИЈИ ЗА ЈН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Arial"/>
              </a:rPr>
              <a:t>ОЦЈЕНА НЕПРИРОДНО НИСКЕ ПОНУД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539-11B5-48A8-9CD8-3F7949CF6F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2360" y="134100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звршење уговора о јавним набавкама се прати (најмање) кроз два сегмента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Извршење уговорних обавеза </a:t>
            </a:r>
            <a:r>
              <a:rPr b="1" lang="ru-RU" sz="3300" spc="-1" strike="noStrike">
                <a:solidFill>
                  <a:srgbClr val="ff1111"/>
                </a:solidFill>
                <a:latin typeface="Arial"/>
              </a:rPr>
              <a:t>наручиоца</a:t>
            </a: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 и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Извршење уговорних обавеза </a:t>
            </a:r>
            <a:r>
              <a:rPr b="1" lang="ru-RU" sz="3300" spc="-1" strike="noStrike">
                <a:solidFill>
                  <a:srgbClr val="ff1111"/>
                </a:solidFill>
                <a:latin typeface="Arial"/>
              </a:rPr>
              <a:t>добављач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5236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2700" spc="-1" strike="noStrike">
                <a:solidFill>
                  <a:srgbClr val="ffff00"/>
                </a:solidFill>
                <a:latin typeface="Arial"/>
              </a:rPr>
              <a:t>ПРАЋЕЊЕ ИЗВРШЕЊА УГОВОРНИХ ОБАВЕЗ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3A9-A403-4C9B-BA72-07438D949F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2360" y="134100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 извршење уговорних обавеза </a:t>
            </a:r>
            <a:r>
              <a:rPr b="1" lang="ru-RU" sz="3000" spc="-1" strike="noStrike">
                <a:solidFill>
                  <a:srgbClr val="ff1111"/>
                </a:solidFill>
                <a:latin typeface="Arial"/>
              </a:rPr>
              <a:t>НАРУЧИОЦА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, од рачуноводствене функције (у сарадњи са финансијском службом) обично се траже: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мрације о роковима плаћања и да ли је добављач испунио претходне (фомралне и суштинске) услове да се доспјела обавеза измир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мрације да ли очекивани прилива новчаних средстава омогућава поштовање преузетих обавез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2600" spc="-1" strike="noStrike">
                <a:solidFill>
                  <a:srgbClr val="ffff00"/>
                </a:solidFill>
                <a:latin typeface="Arial"/>
              </a:rPr>
              <a:t>ПРАЋЕЊЕ ИЗВРШЕЊА УГОВОРНИХ ОБАВЕЗ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E8E-509A-4E3A-8EB9-47128BC44C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2360" y="134100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 извршење уговорних обавеза </a:t>
            </a:r>
            <a:r>
              <a:rPr b="1" lang="ru-RU" sz="3000" spc="-1" strike="noStrike">
                <a:solidFill>
                  <a:srgbClr val="ff1111"/>
                </a:solidFill>
                <a:latin typeface="Arial"/>
              </a:rPr>
              <a:t>НАРУЧИОЦА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, од рачуноводствене функције (у сарадњи са финансијском службом) обично се траже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(НАСТАВАК):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мације о евентуалним посљедицама неизвршења појединих уговорних обавеза или кашњења у њиховом извршењ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мрације које су потребне за евентуално покретање судског спора против некоректног добављач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2600" spc="-1" strike="noStrike">
                <a:solidFill>
                  <a:srgbClr val="ffff00"/>
                </a:solidFill>
                <a:latin typeface="Arial"/>
              </a:rPr>
              <a:t>ПРАЋЕЊЕ ИЗВРШЕЊА УГОВОРНИХ ОБАВЕЗ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FBB-4344-40D6-A83A-02ABE41245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2360" y="112500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 извршење уговорних обавеза </a:t>
            </a:r>
            <a:r>
              <a:rPr b="1" lang="ru-RU" sz="3000" spc="-1" strike="noStrike">
                <a:solidFill>
                  <a:srgbClr val="ff1111"/>
                </a:solidFill>
                <a:latin typeface="Arial"/>
              </a:rPr>
              <a:t>ДОБАВЉАЧА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, од рачуноводствене функције (у сарадњи са финансијском службом) обично се траж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Да ли су документи и исправе о извршењу појединих обавеза добављача управо они који се очекују везано за реализацију уговора о набавци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Да ли су исправе које је доставио добављач уредне, комплетне и довољне да се потврди настанак пословне промјене која се тим исправама желе потврдити у складу са законом и МРС / МСФИ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5236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ПРАЋЕЊЕ ИЗВРШЕЊА УГОВОРНИХ ОБАВ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9BB-3FE5-4FEE-9974-D5D1F2EC40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52360" y="112500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 извршење уговорних обавеза </a:t>
            </a:r>
            <a:r>
              <a:rPr b="1" lang="ru-RU" sz="3000" spc="-1" strike="noStrike">
                <a:solidFill>
                  <a:srgbClr val="ff1111"/>
                </a:solidFill>
                <a:latin typeface="Arial"/>
              </a:rPr>
              <a:t>ДОБАВЉАЧА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, од рачуноводствене функције (у сарадњи са финансијском службом) обично се траже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(НАСТАВАК):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85000"/>
              </a:lnSpc>
              <a:spcBef>
                <a:spcPts val="6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Да се потврди ходограм (рокови) извршења финансијских обавеза добављача, ако такве обавезе произилазе из уговора и начин реализације набавке (везано за деопзите, гаранције, накнаду штете, пенале, казне и др.)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85000"/>
              </a:lnSpc>
              <a:spcBef>
                <a:spcPts val="6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Да ли се поштује калкулација цијена по појединим ставкама јавне набавке и укупно за уговор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2600" spc="-1" strike="noStrike">
                <a:solidFill>
                  <a:srgbClr val="ffff00"/>
                </a:solidFill>
                <a:latin typeface="Arial"/>
              </a:rPr>
              <a:t>ПРАЋЕЊЕ ИЗВРШЕЊА УГОВОРНИХ ОБАВЕЗ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834-F758-4264-968C-418CF80A85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2360" y="112500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 извршење уговорних обавеза </a:t>
            </a:r>
            <a:r>
              <a:rPr b="1" lang="ru-RU" sz="3000" spc="-1" strike="noStrike">
                <a:solidFill>
                  <a:srgbClr val="ff1111"/>
                </a:solidFill>
                <a:latin typeface="Arial"/>
              </a:rPr>
              <a:t>ДОБАВЉАЧА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, од рачуноводствене функције (у сарадњи са финансијском службом) обично се траже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(НАСТАВАК):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85000"/>
              </a:lnSpc>
              <a:spcBef>
                <a:spcPts val="6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Други подаци неопходни да се потврди (не)уредност извршења уговорних обавеза од стране добављача и то оне које су финансијске природе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2600" spc="-1" strike="noStrike">
                <a:solidFill>
                  <a:srgbClr val="ffff00"/>
                </a:solidFill>
                <a:latin typeface="Arial"/>
              </a:rPr>
              <a:t>ПРАЋЕЊЕ ИЗВРШЕЊА УГОВОРНИХ ОБАВЕЗ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490-17C0-411C-8401-51BD8961A9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2000" y="83628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ЧУНОВОДСТВО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ЈЕ СИСТЕМ ЧИЈЕ ФУНКЦИОНИСАЊЕ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БЕЗБЈЕЂУЈ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58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ЈЕ О ФИНАНСИЈСКОМ ПОЛОЖАЈУ, УСПЈЕШНОСТИ, ТОКОВИМА ГОТОВИНЕ, ПРОМЈЕНАМА НА ВЛАСТИТОМ КАПИТАЛУ И ДРУГИМ ФИНАНСИЈСКИМ И НЕФИНАНСИЈСКИМ ИНФОРМАЦИЈАМА ЗНАЧАЈНИМ ЗА ДОНОШЕЊЕ ОДЛУ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ЛАСН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НИХ ОРГАНА ПОСЛОВНОГ СУБЈ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SzPct val="11215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ИНФОМРАЦИЈЕ КОЈЕ СЕ ПРЕЗЕНТУЈУ У ФИНАНСИЈСКИМ ИЗЈВЕШТАЈИМА ЗНАЧАЈНЕ СУ И ЗА СУБЈЕКТЕ ИЗ ОКРУЖЕЊА ЗА ДОНОШЕЊЕ ЊИХОВИХ ОДЛУКА КОЈЕ СУ У ВЕЗИ СА ПОСЛОВНИМ СУБЈЕКТОМ ИЛИ СУ ДИО РЕДОВНИХ АКТИВНОСТИ ЗАИНТЕРЕСОВАНЕ СТРАНЕ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УЛОГА И ЗНАЧАЈ РАЧУНОВОДСТВ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016-5213-4D31-A5FF-9AFEBC7D4E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Кроз активно или консултантско учешће у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SzPct val="1148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ПЛАНИРАЊУ ЈАВНИХ НАБАВК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SzPct val="1148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ДЕФИНИСАЊУ ПОЈЕДИНИХ ЕЛЕМЕНАТА ТЕНДЕРСКЕ ДОКУМЕНТАЦИЈ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SzPct val="1148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ОЦЈЕНИ НЕКИХ ЕЛЕМЕНАТА ПОВЕЗАНИХ СА КВАЛИФИКАЦИЈОМ ПОДОБНОСТИ ПОНУЂАЧА / КАНДИДА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SzPct val="1148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ОЦЈЕНИ ПРОВОЂЕЊА ЈАВНЕ НАБАВКЕ И УГОВОРНИХ ОБАВЕЗ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85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СА АСПЕКТА УГОВОРНОГ ОРГАН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85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СА АСПЕКТА ДОБАВЉАЧ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ЧУНОВОЂА И РАЧУНОВОДСТВЕНЕ ИНФОМРАЦИЈЕ МОГУ БИТИ У ФУКНКЦИЈИ ПРОВОЂЕЊА ЈАВНИХ НАБАВКИ У СКЛАДУ СА ЗАКОНОМ И НАЈБОЉИМ ИНТЕРЕСУ УГОВОРНОГ ОРГ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ЗАКЉУЧ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703-900D-4D8C-AF0A-B8DF4164EF0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2360" y="134100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23104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ХВАЛА НА ПАЖЊИ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е-адреса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sko.danicic@srrrs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BC8-5D9D-423D-809F-CA8D8F621CE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2000" y="836280"/>
            <a:ext cx="8567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НОВОДСТВО ТРЕБА ДА БУДЕ ДИО ИНФОРМАЦИОНОГ СИСТЕМА ПОСЛОВНОГ СУБЈЕКТА КОЈИ УКЉУЧУЈ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SzPct val="1025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ИНПУТЕ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(ПОСЛОВНЕ ДОГАЂАЈЕ ИЛИ ТРАНСАКЦИЈЕ)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 инпуте улазе само оне трансакције које испуњавају 4 услов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а су настал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е / или да је њихов настанак извјес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а су документ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ов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а су изражен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у новцу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(а за потребе материјалног књиговодства и у натуралним величинам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 утичу на примјену стања и кретања имовине, обавеза, капитала, прихода и рас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SzPct val="1025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РОЦЕ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– прикупљање и контролу улазних информација (документације) али и креирање интерних исправа, евидентирање, класификовање, сумирање пословних догађаја (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одвија се у пословним књигама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310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УЛОГА И ЗНАЧАЈ РАЧУНОВОДСТВ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D96-33DD-4F6D-B3D9-49916050E5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2000" y="83628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1958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АУТПУТ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/ ИЗЛАЗИ – резултати процеса обраде података су финансијски извјештаји, који могу бити периодични или годишњи, опште или посебне намјене...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62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ff"/>
                </a:solidFill>
                <a:latin typeface="Arial"/>
              </a:rPr>
              <a:t>РАЧУНОВОДСТВО 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рикупља податк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е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Врши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обрад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података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Архивира и чува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податк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е, документацију и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информациј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е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оставља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и презентује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податк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е,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нформациј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е и извјештаје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Анализира финансијски, приносни и имовински положај пословног субје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УЛОГА И ЗНАЧАЈ РАЧУНОВОДСТВ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02F-5BDC-4098-8A64-5818CFACB2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5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АЧУНОВОДСТВЕНА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АНАЛИ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Се бави анализом финанцијских извјештаја што подразумијева одговор на сљедећа питања, односно процјене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а ли се погоршава или побољшава финансијски положај пословног субијек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а ли се постижу одговарајуће перформансе везано за успјешност пословања и уопште имовински и приносни положај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а ли ће пословни субјект имати способност испуњавати обвезе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тврђује односе између планираних и остварених резултат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тврђује одступање оствареног и планираног и идентификује узроке одступањ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476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Предлаже одређене мјере за превазилажење слабости и појединих ризика (нпр. ризика неликвидности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УЛОГА И ЗНАЧАЈ РАЧУНОВОДСТВ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CF1-AB77-4F1B-8DF7-6C78741860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2360" y="112500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ff"/>
                </a:solidFill>
                <a:latin typeface="Arial"/>
              </a:rPr>
              <a:t>Јавна предузећа, органи управе, јавне установе које примјењују ЗОЈН, локална самоуправа и др. субјекти који примјењују Закон о ЈН, имају обавезу да, између осталих, планирају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приходе и расход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капиталне издатке (инвестиције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изворе финансирања инвестициј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ако је неопходно за остварење планираних циљева – узмање зајмов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гаранције чије је давање предложено за осигурање тих кредит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3400" spc="-1" strike="noStrike">
                <a:solidFill>
                  <a:srgbClr val="ffff00"/>
                </a:solidFill>
                <a:latin typeface="Arial"/>
              </a:rPr>
              <a:t>ПЛАНИРАЊЕ ЈАВНИХ НАБАВК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C15-7CE2-4404-8B7C-FE3BDA7272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2000" y="1125000"/>
            <a:ext cx="889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 анализе приносног и финансијског положаја пословног субјекта и процјене будућих кретања долази се до закључ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786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Колике су улагачке способности пословног субјекта из сопствених извор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786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Које су границе задужењ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786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Какве су реперкусије могућег задужења на ликвидност и одржавање пословних функција у планираном обиму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786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Који ризици се могу идентификовати код реализације појединих позиција плана јавних набав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786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Који обим јавних набавки је економски допустив и исплати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sr-CS" sz="3400" spc="-1" strike="noStrike">
                <a:solidFill>
                  <a:srgbClr val="ffff00"/>
                </a:solidFill>
                <a:latin typeface="Arial"/>
              </a:rPr>
              <a:t>ПЛАНИРАЊЕ ЈАВНИХ НАБАВК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5CD-C6DE-4D2C-AF66-F86B20B3A7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2360" y="112500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У рачуноводственим евиденцијама и пословној документацији назазе се историјски подаци о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претходним набавкама истоврсне нарави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претходним набавкама сличних добара /  радова / услуг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структури нававне вриједности из претходних набав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(не)могућности раздвајања набавк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ходограму набавки (временски слијед) који је потврђен као правовањан и прихватљи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pl-PL" sz="3000" spc="-1" strike="noStrike">
                <a:solidFill>
                  <a:srgbClr val="ffff00"/>
                </a:solidFill>
                <a:latin typeface="Arial"/>
              </a:rPr>
              <a:t>ПРОЦИЈЕЊЕНА ВРИЈЕДНОСТ</a:t>
            </a:r>
            <a:r>
              <a:rPr b="1" lang="sr-CS" sz="3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pl-PL" sz="3000" spc="-1" strike="noStrike">
                <a:solidFill>
                  <a:srgbClr val="ffff00"/>
                </a:solidFill>
                <a:latin typeface="Arial"/>
              </a:rPr>
              <a:t> УГОВО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E8D-585E-4C81-B353-96AE7F25D6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2360" y="112500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Искуство и стручност рачуновође може се искористити за припрему тендерске документације и то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Код описа производа, услуга или радова (нпр. код набавке рачуновоственог програма или сложеног пословног инфомрационог система, потребно је консултовати рачуновођу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Код дефинисања критеријума избора који установљују минималне услове за квалификацију кандидата или понуђача и информације за вршење такве процјене (нпр. везано за пожељне финансијске перформансе понуђача);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РАЧУНОВОДСТВЕНА ФУНКЦИЈА И </a:t>
            </a:r>
            <a:r>
              <a:rPr b="1" lang="pl-PL" sz="3000" spc="-1" strike="noStrike">
                <a:solidFill>
                  <a:srgbClr val="ffff00"/>
                </a:solidFill>
                <a:latin typeface="Arial"/>
              </a:rPr>
              <a:t>ТЕНДЕРСКА ДОКУМЕНТАЦИЈА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ЈАВНЕ НАБАВКЕ У БиХ                        - Семинар 24.06.2011.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866-DA85-407A-A199-F53ACB2535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финрар и СРР - РС   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8:28:40Z</dcterms:created>
  <dc:creator>DuskoD</dc:creator>
  <dc:description/>
  <dc:language>en-US</dc:language>
  <cp:lastModifiedBy>Danicic Dusko</cp:lastModifiedBy>
  <dcterms:modified xsi:type="dcterms:W3CDTF">2011-06-22T09:47:22Z</dcterms:modified>
  <cp:revision>48</cp:revision>
  <dc:subject/>
  <dc:title>    SISTEM PRIVREDNIH I TRGOVINSKIH KOMORA I UTVR\IVAWE I PLA]AWE ^LANSKOG DOPRINOSA ZA 2003. GODINU     1. KOMORSKI SISTEM I PRAVNA REGULATIVA    Za Privrednnu komoru Republike Srpske:  - Zakon o Privrednoj komori ("Sl.glasnik RS", br. 20/92,  18/99, 51/01, 56/01, 58/01 i 39/03), - Odluka o na~inu obra~una, visini godi{we ~lanarine,  rokovima i na~inu uplate (Slu`beni glasnik  Republike  Srpske broj 80/02) i - Pravilnik o na~inu davawa informacija i potvrda o  bonitetu ~lanova Komore ("Sl.glasnik RS", br. 80/02).</dc:title>
</cp:coreProperties>
</file>