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738-389C-4B0B-9575-2267CDB8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922-1A35-4F7E-96DF-05B3930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AB2-4820-42FC-A5A1-B868DD2C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DC2-41CB-47BF-B5E2-33093D7C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775-C0C1-4658-8F9E-347A305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AD5-5982-47B7-BEBD-8966828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DEE-63DD-4F4C-B0E1-EC73A28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EBE-20EC-4BEA-9F36-B12AC464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45-4B69-4E89-A6D6-4E5C2996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804-7729-4CAE-9976-748E86F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CB6-5BA5-4CD2-B7BE-818695F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D66-2B77-4D5C-8E23-BB0D0D1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6A8-D689-4E07-85EC-3F4D1FA9C7A2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а служба за ревизију јавног сектора 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р БОШКО Ч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лавни реви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ЈЕРИ НЕПОШТОВАЊА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јер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ајчешће утврђена одступањ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усвојен годишњи план наба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успостављена комисија за јавне набав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врши се процјена вриједности набавке прије покретања посту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сачињена општа тендерска 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критериј за додјелу уговора је одабире се економски најповољнија понуда, а нису дефинисани критерији за израчунавање економски најповољније пон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бавјештењу о набавци, није наведен преферцијални третман домаће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уђачима је остављен рок за достављање понуда краћи од прописан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уде се међусобно по вједностима значајно разликују, а уговорни орган није тражио појашњене за такве цијене, комисија врши бодовање понуда у којима нису прецизно дефинисани услови који су неопходни за оцјену пон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бавке се дијеле, како би се избјегле процедуре прописане за вредносне разре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ВАЛА ЗА ПАЖ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РАВИЛНОСТИ КОЈЕ ЈЕ ГЛАВНА СЛУЖБА ЗА РЕВИЗИЈУ ЈАВНОГ СЕКТОРА УОЧИЛА У ПОГЛЕДУ ПРИМЈЕНЕ И ПРОВОЂЕЊА ПРОЦЕДУРА У ЈАВНИМ НАБАВ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онска регула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ревизији јавног сектора Р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извршењу буџета Р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 о набавкама Б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 законски а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Закон о ревизији ЈС 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члану 3. под циљевима наво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ан од основних циљева Главне службе за ревизију је да обезбиједи независна мишљења о примјени закона и других прописа, тиме и Закона о набавкама, Закона о извршењу буџета, итд. О коришћењу ресурса и управљања државном својином у институцијама и јавном сек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Закон о извршењу буџ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ном је дефинисано, да су буџетски корисници дужни да се у поступку набавке робе, материјала и вршења услуга придржавају одредби закона о јавним  набавкама БиХ, као и процедура о обавезној примјени модула набавки прописаног Правилником о процедури вођења помоћних књига (Сл. гл. РС 59/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вођење ревизије на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кладу са Водичем за ревизију јавног сектора  Главна служба  вр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визију интерне контр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ско испитивање наба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ако се проводи  ревизија набав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олно окруж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о контролно окружење одликује слиј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иши менаџмент развио је јасно изражену изјаву о етичким вриједностима који особље задужено за процес набавки разум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 организациона структура која помаже дјелотворну интерну контролу над процесом наба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ација задржава појединце који су компетентни за финансијско извјештавање и питања наб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јена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и ризици унутар процеса наба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ручене робе нису потребне организациј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ручене робе нису у складу са политиком организ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ручене робе не пружају вриједност за нова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бе нису испоручене организацији, набавка није обављена према прописиним правилима, током проц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тролне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истему контроле који добро функционише требали би бити остварени следећи контролни циље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набавке иницирају и ауторизирају одговарајући службениц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ршена одговарајућа подјела дуж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лопљени уговори извршени су у складу са правилима набавке у јавном сект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трансакције које се тичу набавки робе и услуге у потпуности одговарају уго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7:26:31Z</dcterms:created>
  <dc:creator>bceko</dc:creator>
  <dc:description/>
  <dc:language>en-US</dc:language>
  <cp:lastModifiedBy> </cp:lastModifiedBy>
  <dcterms:modified xsi:type="dcterms:W3CDTF">2011-06-24T05:53:28Z</dcterms:modified>
  <cp:revision>5</cp:revision>
  <dc:subject/>
  <dc:title>Главна служба за ревизију јавног сектора РС</dc:title>
</cp:coreProperties>
</file>