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145-478B-42A0-9EFF-4CA15C64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07A-1795-48B0-AC4D-DFE0A009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58B-C79D-425A-87BA-43300C59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282-860C-4E48-9D81-5DAECBE8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7801-F201-4434-936A-94BDC8BF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B50C-9265-4289-B477-A0E6E4F1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34C4-0B93-4946-9F23-D91B2B7D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72FF-130C-41CF-B3C7-F5D9D8D8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38E9-ADF8-4D34-8973-00CCD5D1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54B1-B0FC-44D2-8E8A-748A0DD6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1B29-5D01-4BCC-A579-F34A2C8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5D9-C971-4EFD-9F2A-76C2AFDE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EB25-9E09-4F76-83F3-AE77CFC3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12A5-F69A-4B14-9353-B858C1C6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3C20-F8D4-422C-9181-63608F70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402A-ACC2-4E71-BBA5-6E672A65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8762-0EB0-45B1-9ECB-B671C14C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2F0-6651-4574-B8C3-B1169DC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D89-44F0-4AF2-A45D-6B254082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20D-BBF3-45B3-960B-7D1E0C8C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D4E-F57A-48EA-B89F-08709C24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99F-21C5-4039-8B33-74E1900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52D-D790-44DD-A9A4-DF8E8C41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BF1-7F1A-40EF-9A9F-1A75403C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C9F5-8A87-49C1-9DC6-2111C29C61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399A-D152-4E7A-9DDC-9599F0179C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BA" sz="3200" spc="-1" strike="noStrike">
                <a:solidFill>
                  <a:srgbClr val="333399"/>
                </a:solidFill>
                <a:latin typeface="Tahoma"/>
              </a:rPr>
              <a:t>Мониторинг поступака јавних набавки - уочени проблеми  и препоруке за њихово отклањањ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98240" y="3819600"/>
            <a:ext cx="7340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BA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sr-BA" sz="2400" spc="-1" strike="noStrike">
                <a:solidFill>
                  <a:srgbClr val="000000"/>
                </a:solidFill>
                <a:latin typeface="Tahoma"/>
              </a:rPr>
              <a:t>Драгана Рибић,</a:t>
            </a:r>
            <a:r>
              <a:rPr b="1" lang="sr-Latn-B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BA" sz="2400" spc="-1" strike="noStrike">
                <a:solidFill>
                  <a:srgbClr val="000000"/>
                </a:solidFill>
                <a:latin typeface="Tahoma"/>
              </a:rPr>
              <a:t>дипл.правник </a:t>
            </a:r>
            <a:r>
              <a:rPr b="1" lang="hr-BA" sz="24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1" lang="sr-BA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Анализа одлука Канцеларије за разматрање жалби као извор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оништење поступка јавне набавке на основу разлога који нису предвиђени чланом 12.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настављање поступка набавке са мање од три понуде без доказа оправданости истог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рихватање понуде која не садрже све тражене количинске ставке из тендерске документациј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слови учешћа високо постављени и несразмјерни са предметом набавке - супротно члану 22.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рихватање понуде која не испуњава све услове из члана 23.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захтјева се достављање копије уговора за чл. 26. став 2. тачка а), умјесто листе главних испору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Анализа одлука Канцеларије за разматрање жалби као извор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од критеријума економски најповољнија понуда подкритеријуми: рок плаћања, рок испоруке, гарантни рок нису разрађен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Одлука о избору најповољнијег понуђача не садржи разлоге избора најповољније понуд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 није провео поступак провјере понуде која је оцјењена као неприродно ниска – супротно члану 36.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огрешно тумачење члана 14. Упутства – уговорни орган дозвољава претварање непотпуне понуде у потпуну на начин да тражи накнадну доставу докумен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Извјештаји институција које врше ревизију у Босни и Херцеговини као извор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 закључен на већу вриједност него што је вриједност изабране понуде; додатни и накнадни радови прелазе 50% главног уговора; изабрани понуђач није доставио банкарску гаранцију за добро извршење посла иако је тражена; уговор закључен прије истека рока од 15 дана; провођење преговарачког поступка из разлога хитности иако нису испуњени услови; у конкретском поступку нија изабрана понуда са најнижом цијеном; прекорачен услов код директног споразума од 10%; у тендерској документацији се наводи детаљан опис карактеристика аутомобила; уговорни органи не достављају извјештаје Агенцији и не објављују Обавјештења о додјели уговора у Службеном гласнику БиХ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Мониторинг дописа које уговорни органи и понуђачи упућују Агенциј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ритеријуми за квалификацију кориштени за вредновање понуд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тражење непримјерено високе  накнаде за тендерску документациј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раћи рокови за пријем понуда од законом утврђени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фаворизовање одређених понуђача кроз детаљне  описе у техничким спецификација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Уочени напредак остварен кроз активности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и више не наводе да “задржавају право да пониште поступак и да при том не сносе никакву одговорност према понуђачима нити су у обавези да објасне разлоге такве одлуке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смањено је позивање на “робне марке, патенте, типове или одређено поријекло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и за члан 23. став 1. тачка ц) и д) више не захтјевају увјерења за одговорно лице у правном лицу што је раније био чест случај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и смањују цијену тендерске документациј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значајно је мањи број мјешања услова учешћа и критеријума за оцјену понуд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Реакција уговорних органа на провођење мониторинга су врло позитивне што се види из повратних дописа у којима често захваљују на указаним грешкама уз напомену да се наведено неће понавља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остварује се сврха мониторинга да поред корективног има и едукативни каракте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сви резултати мониторинга са препорукама за отклањање уочених грешака постављени су н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страници Агенциј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циљу остварења пуне сврхе мониторинга неопходно је задржати континуитет у едукацији уговорних органа и понуђач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Уочени напредак остварен кроз активности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ahoma"/>
              </a:rPr>
              <a:t>Хвала на пажњи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Правни основ за мониторинг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складу са чланом 48. тачка е) Закона о јавним набавкама Босне и Херцеговине надлежност Агенције за јавне набавке је успостављање система за праћење уговорних органа у вези с примјеном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равилником о мониторингу поступака јавних набавки (“Службени гласник БиХ”, број 48/08, 50/10),   дефинисан је систем праћења примјене ЗЈН БиХ тако што је Агенција за јавне набавке задужена да проводи мониторинг поступака јавних набавки за све уговорне орга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Предмет и поступак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редмет  мониторинга поступака јавних набавки обухвата законитост примјене појединачних поступака јавних набавки код уговорних орга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оступак мониторинга се проводи на основу сазнања до којих Агенција долази из извора мониторинга и може се вршити у свакој фази поступка јавне набавк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ритеријуми на основу којих Агенција врши избор поступка јавних набавки за мониторинг су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а) вриједност набавк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б) тежина неправилност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в) посредан значај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Предмет и поступак мониторинг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ада Агенција, на основу увида у Обавјештење, извјештај као и путем комуникације са КРЖ и др., утврди да је дошло до одређених повреда Закона и подзаконских аката упућује допис  уговорном органу у којем указује на учињену неправилност и даје препоруку за отклањање исти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 је дужан да по допису поступи, отклони неправилност и да о томе обавјести Агенцију најкасније у року од 7 да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случају да уговорни орган не отклони уочену повреду, информација о предметном поступању се доставља надлежној канцеларији за ревизију и уочена повреда поставља н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страници Агенциј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Извори података за мониторинг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Агенција проводи активности праћења уговорних органа користећи следеће изворе подата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обавјештења везана за јавне набавке објављена у Службеном гласнику БиХ и у дневним новинам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извјештаји о проведеном поступку јавне набавке које уговорни органи достављају Агенциј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одлуке Канцеларије за разматрање жалб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извјештаји институција  које врше ревизију у БиХ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дописи које достављају уговорни органи и понуђач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дописи од стране других надлежних институција        ( инспекције, полиције, судови, тужилаштва и др.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извјештаји невладиних организациј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Најчешће неправилности и дате препоруке приликом провођења мониторинга Обавјештењ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Набавка се дијели на лотове на начин да се мјешају различити предмети набавке – подјела на лотове је могућа само у оквиру исте набавне категорије              ( чл.6. став 8. Закона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као подкритеријуми за вредновање понуда користе се референце, економска и финансијска подобност, техничка и професионална способност – уговорни органи требају правити разлику између селекционих критеријума ( чл. 22-27) и критеријума за додјелу уговора ( чл.34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Обавјештењу се не наводе подкритеријуми – садржај Обавјештења је прописан чл. 19. Закона и чл. 11. Упутства о примјени ЗЈ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Најчешће неправилности и дате препоруке приликом провођења мониторинга Обавјештењ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Обавјештењу се не наводи вријеме отварања понуда него само датум или се наведе “ 28 дана од дана објаве Обавјештења”-обавезно је тачно навести вријеме и датум отварања понуда ( чл.13 став 3. тачка п) Закона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говорни органи захтјевају високу цијену за откуп тендерске документације – супротно члану 18. став 4.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отварање понуда се не врши непосредно након крајњег рока за пријем понуда – “непосредно “ значи пола сата или сат по истеку рока за пријем понуд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неправилно дефинисање уговора о набавци – члан 2. тачке 10.,11. и 12. Закон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Најчешће неправилности и дате препоруке приликом провођења мониторинга Обавјештењ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Обавјештењу о додјели уговора и Обавјештењу о поништењу поступка наводе се јединичне цијене; закључују се уговори на бази јединичних цијена -обавезно је навести укупну вриједност уговора            ( чл.13. став 3. тачка Закона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не наводи се период трајања уговора већ                     “регулисаће се закљученим уговором”-супротно чл.13.став 3. тачка г) Зак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у Обавјештењу о набавци није предвиђена примјена преференцијаног третмана домаћег – Одлука Савјета министара која је обавезујућ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једним обавјештењем  уговорни орган обавјештава о додјели уговора за више поступа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400" spc="-1" strike="noStrike">
                <a:solidFill>
                  <a:srgbClr val="333399"/>
                </a:solidFill>
                <a:latin typeface="Tahoma"/>
              </a:rPr>
              <a:t>Мониторинг извјештаја о проведеним поступцима јавне набавк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Додјела уговора у конкуретском захтјеву на бази понуђеног попуста, а не на бази најниже цијене технички задовољавајуће понуде – чл. 46. став 3. Закона-додјела се заснива на најнижој цијен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нема количине већ је уговор додјељен на бази јединичних цијена - чл. 13. став 3. Закона – треба се навести укупна количина производа, услуга или радов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примјењен директни споразум за вриједност која одговара конкуретском захтјев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>
                <a:solidFill>
                  <a:srgbClr val="000000"/>
                </a:solidFill>
                <a:latin typeface="Tahoma"/>
              </a:rPr>
              <a:t>цијепање набавке – збир више конкуретских захтјева за исти предмет набавке прелази вриједност за конкуретски захтјев за достављање пону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7:54:33Z</dcterms:created>
  <dc:creator>REPUBLIKA SLOVENIJA</dc:creator>
  <dc:description/>
  <dc:language>en-US</dc:language>
  <cp:lastModifiedBy> </cp:lastModifiedBy>
  <dcterms:modified xsi:type="dcterms:W3CDTF">2011-06-22T12:17:00Z</dcterms:modified>
  <cp:revision>300</cp:revision>
  <dc:subject/>
  <dc:title>PowerPoint Presentation</dc:title>
</cp:coreProperties>
</file>